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CD91F-51DC-4FDD-97EC-ABE5FA817CEB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FCBBF-4503-4C64-8949-9789FC48B4B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AAF88-304F-4897-8115-AB981A93DC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B1F8A-78E4-4DCA-ACEF-AE5062DC1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BF1B0-7979-4B79-B4FD-451DBA18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CE777-643B-44DC-9E15-EFD1922893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BC256D-4F0E-4FC4-B00E-616F8B8CE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0EA552-47C2-49C5-B9DE-A0748D17B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0DD1A6-D323-426C-B6A3-A5E00CAD8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81C9E2-F5C0-4621-9651-A8F72B541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5128FD-CA05-48CB-9D98-02E5D5E67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C7B6C4-E55A-4D40-BCCD-62A4013BF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4DC58A-2F80-4A21-9208-B355A256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CF906-F601-43A4-960C-F577AB8D3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B6387F-EE6C-40A7-80AD-ED2F1E2E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5B8907-3959-4EF4-9824-C876EE8A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EAC8FE-D96A-4440-AF20-2EDC8875C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46EB4C-8F15-4DF5-91B4-A9C147AD1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72E70E-D58D-4267-80F0-947841A6F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EBAA1-639C-4540-A418-AC4553127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2EE92-89CA-4D4A-81E4-BDF3894D9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0028B-13FC-4FA2-A76E-2F1348FAD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FBE02-FC76-46E4-9DC0-F26DC8371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ADD8B-1220-4A48-8796-A5B4E7EA0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0A755-349F-4F85-9EF4-3FEBBED12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8099A-BF0B-4319-ACF7-12C1AA4ED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C95C2-2E52-4F0B-93EA-435246743D7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E6E03-0A24-4C60-BC27-5036D9D65B38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87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8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89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90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2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3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94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95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" name="Rectangle 12"/>
              <p:cNvSpPr/>
              <p:nvPr/>
            </p:nvSpPr>
            <p:spPr>
              <a:xfrm>
                <a:off x="28440" y="50392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97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98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9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00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01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2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3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06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xuncai.com/toolbar/pic2_to/imagedown.asp?imageUrl=http://www.dabaoku.com/sucai/yiliao/kangfu/014an.jpg&amp;publisher=xuncai010@dabaoku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646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     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第七章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管理沟通与冲突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69984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四、管理沟通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560" y="1707840"/>
            <a:ext cx="889308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按沟通的方向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垂直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团体或组织在管理结构各层次之间进行信息传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包括上行和下行两个方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平行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组织结构中同一层次人员或部门之间的信息传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斜向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不属于同一组织层次单位和人员之间进行的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4000" y="11620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四、管理沟通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2356920"/>
            <a:ext cx="8362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按沟通的渠道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正式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正式的组织程序和组织所规定的正式渠道进行的沟通，是沟通的主要形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宋体"/>
                <a:hlinkClick r:id="rId1" action="ppaction://hlinksldjump"/>
              </a:rPr>
              <a:t>五种典型的沟通网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正式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正式沟通渠道之外进行的信息传递或交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11"/>
          <p:cNvGrpSpPr/>
          <p:nvPr/>
        </p:nvGrpSpPr>
        <p:grpSpPr>
          <a:xfrm>
            <a:off x="754200" y="1701720"/>
            <a:ext cx="575640" cy="3671640"/>
            <a:chOff x="754200" y="1701720"/>
            <a:chExt cx="575640" cy="3671640"/>
          </a:xfrm>
        </p:grpSpPr>
        <p:sp>
          <p:nvSpPr>
            <p:cNvPr id="190" name="AutoShape 4"/>
            <p:cNvSpPr/>
            <p:nvPr/>
          </p:nvSpPr>
          <p:spPr>
            <a:xfrm>
              <a:off x="754200" y="1701720"/>
              <a:ext cx="566280" cy="5238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91" name="AutoShape 5"/>
            <p:cNvCxnSpPr/>
            <p:nvPr/>
          </p:nvCxnSpPr>
          <p:spPr>
            <a:xfrm>
              <a:off x="1037160" y="2226240"/>
              <a:ext cx="2160" cy="52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92" name="AutoShape 6"/>
            <p:cNvSpPr/>
            <p:nvPr/>
          </p:nvSpPr>
          <p:spPr>
            <a:xfrm>
              <a:off x="763560" y="2750760"/>
              <a:ext cx="566280" cy="523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3" name="AutoShape 7"/>
            <p:cNvSpPr/>
            <p:nvPr/>
          </p:nvSpPr>
          <p:spPr>
            <a:xfrm>
              <a:off x="754200" y="3800880"/>
              <a:ext cx="566280" cy="523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4" name="AutoShape 8"/>
            <p:cNvSpPr/>
            <p:nvPr/>
          </p:nvSpPr>
          <p:spPr>
            <a:xfrm>
              <a:off x="754200" y="4849560"/>
              <a:ext cx="566280" cy="5238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95" name="AutoShape 9"/>
            <p:cNvCxnSpPr/>
            <p:nvPr/>
          </p:nvCxnSpPr>
          <p:spPr>
            <a:xfrm>
              <a:off x="1037160" y="3274200"/>
              <a:ext cx="2160" cy="52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96" name="AutoShape 10"/>
            <p:cNvCxnSpPr/>
            <p:nvPr/>
          </p:nvCxnSpPr>
          <p:spPr>
            <a:xfrm>
              <a:off x="1035360" y="4324320"/>
              <a:ext cx="1800" cy="52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197" name="Text Box 12"/>
          <p:cNvSpPr/>
          <p:nvPr/>
        </p:nvSpPr>
        <p:spPr>
          <a:xfrm>
            <a:off x="395280" y="5732640"/>
            <a:ext cx="14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链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98" name="Group 24"/>
          <p:cNvGrpSpPr/>
          <p:nvPr/>
        </p:nvGrpSpPr>
        <p:grpSpPr>
          <a:xfrm>
            <a:off x="2482920" y="2205000"/>
            <a:ext cx="1728360" cy="2736360"/>
            <a:chOff x="2482920" y="2205000"/>
            <a:chExt cx="1728360" cy="2736360"/>
          </a:xfrm>
        </p:grpSpPr>
        <p:cxnSp>
          <p:nvCxnSpPr>
            <p:cNvPr id="199" name="AutoShape 13"/>
            <p:cNvCxnSpPr/>
            <p:nvPr/>
          </p:nvCxnSpPr>
          <p:spPr>
            <a:xfrm flipH="1">
              <a:off x="2852640" y="3889080"/>
              <a:ext cx="329040" cy="526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00" name="AutoShape 14"/>
            <p:cNvSpPr/>
            <p:nvPr/>
          </p:nvSpPr>
          <p:spPr>
            <a:xfrm>
              <a:off x="3099960" y="3362040"/>
              <a:ext cx="43128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AutoShape 15"/>
            <p:cNvSpPr/>
            <p:nvPr/>
          </p:nvSpPr>
          <p:spPr>
            <a:xfrm>
              <a:off x="3779640" y="4415760"/>
              <a:ext cx="43164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AutoShape 16"/>
            <p:cNvSpPr/>
            <p:nvPr/>
          </p:nvSpPr>
          <p:spPr>
            <a:xfrm>
              <a:off x="2543760" y="4415760"/>
              <a:ext cx="43164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AutoShape 17"/>
            <p:cNvSpPr/>
            <p:nvPr/>
          </p:nvSpPr>
          <p:spPr>
            <a:xfrm>
              <a:off x="2482920" y="2257200"/>
              <a:ext cx="43164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AutoShape 18"/>
            <p:cNvSpPr/>
            <p:nvPr/>
          </p:nvSpPr>
          <p:spPr>
            <a:xfrm>
              <a:off x="3594240" y="2205000"/>
              <a:ext cx="43164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205" name="AutoShape 19"/>
            <p:cNvCxnSpPr/>
            <p:nvPr/>
          </p:nvCxnSpPr>
          <p:spPr>
            <a:xfrm>
              <a:off x="2792880" y="2835720"/>
              <a:ext cx="369720" cy="474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06" name="AutoShape 20"/>
            <p:cNvCxnSpPr/>
            <p:nvPr/>
          </p:nvCxnSpPr>
          <p:spPr>
            <a:xfrm>
              <a:off x="3471480" y="3889080"/>
              <a:ext cx="329040" cy="526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07" name="AutoShape 21"/>
            <p:cNvCxnSpPr/>
            <p:nvPr/>
          </p:nvCxnSpPr>
          <p:spPr>
            <a:xfrm flipH="1">
              <a:off x="3471120" y="2782800"/>
              <a:ext cx="329040" cy="525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208" name="Text Box 23"/>
          <p:cNvSpPr/>
          <p:nvPr/>
        </p:nvSpPr>
        <p:spPr>
          <a:xfrm>
            <a:off x="2554200" y="5661000"/>
            <a:ext cx="14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轮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9" name="Group 34"/>
          <p:cNvGrpSpPr/>
          <p:nvPr/>
        </p:nvGrpSpPr>
        <p:grpSpPr>
          <a:xfrm>
            <a:off x="5003640" y="1917720"/>
            <a:ext cx="1223640" cy="3742920"/>
            <a:chOff x="5003640" y="1917720"/>
            <a:chExt cx="1223640" cy="3742920"/>
          </a:xfrm>
        </p:grpSpPr>
        <p:sp>
          <p:nvSpPr>
            <p:cNvPr id="210" name="AutoShape 25"/>
            <p:cNvSpPr/>
            <p:nvPr/>
          </p:nvSpPr>
          <p:spPr>
            <a:xfrm>
              <a:off x="5003640" y="1917720"/>
              <a:ext cx="444240" cy="541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AutoShape 26"/>
            <p:cNvSpPr/>
            <p:nvPr/>
          </p:nvSpPr>
          <p:spPr>
            <a:xfrm>
              <a:off x="5783040" y="1917720"/>
              <a:ext cx="444240" cy="541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AutoShape 27"/>
            <p:cNvSpPr/>
            <p:nvPr/>
          </p:nvSpPr>
          <p:spPr>
            <a:xfrm>
              <a:off x="5393880" y="2948400"/>
              <a:ext cx="444240" cy="541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AutoShape 28"/>
            <p:cNvSpPr/>
            <p:nvPr/>
          </p:nvSpPr>
          <p:spPr>
            <a:xfrm>
              <a:off x="5393880" y="4034520"/>
              <a:ext cx="444240" cy="541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4" name="AutoShape 29"/>
            <p:cNvSpPr/>
            <p:nvPr/>
          </p:nvSpPr>
          <p:spPr>
            <a:xfrm>
              <a:off x="5393880" y="5118840"/>
              <a:ext cx="444240" cy="5418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215" name="AutoShape 30"/>
            <p:cNvCxnSpPr/>
            <p:nvPr/>
          </p:nvCxnSpPr>
          <p:spPr>
            <a:xfrm>
              <a:off x="5614560" y="4577400"/>
              <a:ext cx="1080" cy="54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16" name="AutoShape 31"/>
            <p:cNvCxnSpPr/>
            <p:nvPr/>
          </p:nvCxnSpPr>
          <p:spPr>
            <a:xfrm>
              <a:off x="5614560" y="3491280"/>
              <a:ext cx="1080" cy="54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17" name="AutoShape 32"/>
            <p:cNvCxnSpPr/>
            <p:nvPr/>
          </p:nvCxnSpPr>
          <p:spPr>
            <a:xfrm flipH="1">
              <a:off x="5726520" y="2460600"/>
              <a:ext cx="190800" cy="54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18" name="AutoShape 33"/>
            <p:cNvCxnSpPr/>
            <p:nvPr/>
          </p:nvCxnSpPr>
          <p:spPr>
            <a:xfrm>
              <a:off x="5280480" y="2460600"/>
              <a:ext cx="189720" cy="54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219" name="Text Box 35"/>
          <p:cNvSpPr/>
          <p:nvPr/>
        </p:nvSpPr>
        <p:spPr>
          <a:xfrm>
            <a:off x="7034040" y="3446640"/>
            <a:ext cx="14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环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0" name="Group 47"/>
          <p:cNvGrpSpPr/>
          <p:nvPr/>
        </p:nvGrpSpPr>
        <p:grpSpPr>
          <a:xfrm>
            <a:off x="6875640" y="1560600"/>
            <a:ext cx="1799640" cy="1944720"/>
            <a:chOff x="6875640" y="1560600"/>
            <a:chExt cx="1799640" cy="1944720"/>
          </a:xfrm>
        </p:grpSpPr>
        <p:sp>
          <p:nvSpPr>
            <p:cNvPr id="221" name="AutoShape 36"/>
            <p:cNvSpPr/>
            <p:nvPr/>
          </p:nvSpPr>
          <p:spPr>
            <a:xfrm>
              <a:off x="6875640" y="224712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AutoShape 37"/>
            <p:cNvSpPr/>
            <p:nvPr/>
          </p:nvSpPr>
          <p:spPr>
            <a:xfrm>
              <a:off x="7068240" y="304776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AutoShape 38"/>
            <p:cNvSpPr/>
            <p:nvPr/>
          </p:nvSpPr>
          <p:spPr>
            <a:xfrm>
              <a:off x="8154000" y="304632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AutoShape 39"/>
            <p:cNvSpPr/>
            <p:nvPr/>
          </p:nvSpPr>
          <p:spPr>
            <a:xfrm>
              <a:off x="8282880" y="218916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5" name="AutoShape 40"/>
            <p:cNvSpPr/>
            <p:nvPr/>
          </p:nvSpPr>
          <p:spPr>
            <a:xfrm>
              <a:off x="7517520" y="156060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226" name="AutoShape 41"/>
            <p:cNvCxnSpPr/>
            <p:nvPr/>
          </p:nvCxnSpPr>
          <p:spPr>
            <a:xfrm flipH="1">
              <a:off x="7067520" y="1846080"/>
              <a:ext cx="386280" cy="399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27" name="AutoShape 42"/>
            <p:cNvCxnSpPr/>
            <p:nvPr/>
          </p:nvCxnSpPr>
          <p:spPr>
            <a:xfrm>
              <a:off x="7068240" y="2703240"/>
              <a:ext cx="128160" cy="401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28" name="AutoShape 43"/>
            <p:cNvCxnSpPr/>
            <p:nvPr/>
          </p:nvCxnSpPr>
          <p:spPr>
            <a:xfrm>
              <a:off x="7968240" y="1846080"/>
              <a:ext cx="45000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29" name="AutoShape 44"/>
            <p:cNvCxnSpPr/>
            <p:nvPr/>
          </p:nvCxnSpPr>
          <p:spPr>
            <a:xfrm flipH="1">
              <a:off x="8388360" y="2646360"/>
              <a:ext cx="93960" cy="399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30" name="Line 46"/>
            <p:cNvSpPr/>
            <p:nvPr/>
          </p:nvSpPr>
          <p:spPr>
            <a:xfrm>
              <a:off x="7453800" y="3389040"/>
              <a:ext cx="706680" cy="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1" name="Text Box 48"/>
          <p:cNvSpPr/>
          <p:nvPr/>
        </p:nvSpPr>
        <p:spPr>
          <a:xfrm>
            <a:off x="4786200" y="5748480"/>
            <a:ext cx="14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Arial"/>
                <a:ea typeface="黑体"/>
              </a:rPr>
              <a:t>Y</a:t>
            </a: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2" name="Group 74"/>
          <p:cNvGrpSpPr/>
          <p:nvPr/>
        </p:nvGrpSpPr>
        <p:grpSpPr>
          <a:xfrm>
            <a:off x="7020000" y="3989520"/>
            <a:ext cx="1726920" cy="2015640"/>
            <a:chOff x="7020000" y="3989520"/>
            <a:chExt cx="1726920" cy="2015640"/>
          </a:xfrm>
        </p:grpSpPr>
        <p:sp>
          <p:nvSpPr>
            <p:cNvPr id="233" name="AutoShape 50"/>
            <p:cNvSpPr/>
            <p:nvPr/>
          </p:nvSpPr>
          <p:spPr>
            <a:xfrm>
              <a:off x="7020000" y="4520160"/>
              <a:ext cx="39888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AutoShape 51"/>
            <p:cNvSpPr/>
            <p:nvPr/>
          </p:nvSpPr>
          <p:spPr>
            <a:xfrm>
              <a:off x="7088400" y="5420520"/>
              <a:ext cx="39888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AutoShape 52"/>
            <p:cNvSpPr/>
            <p:nvPr/>
          </p:nvSpPr>
          <p:spPr>
            <a:xfrm>
              <a:off x="8348040" y="5420520"/>
              <a:ext cx="39888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AutoShape 53"/>
            <p:cNvSpPr/>
            <p:nvPr/>
          </p:nvSpPr>
          <p:spPr>
            <a:xfrm>
              <a:off x="8331120" y="4510080"/>
              <a:ext cx="39924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AutoShape 54"/>
            <p:cNvSpPr/>
            <p:nvPr/>
          </p:nvSpPr>
          <p:spPr>
            <a:xfrm>
              <a:off x="7709760" y="3989520"/>
              <a:ext cx="39924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Line 64"/>
            <p:cNvSpPr/>
            <p:nvPr/>
          </p:nvSpPr>
          <p:spPr>
            <a:xfrm>
              <a:off x="7502760" y="5745960"/>
              <a:ext cx="828360" cy="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Line 65"/>
            <p:cNvSpPr/>
            <p:nvPr/>
          </p:nvSpPr>
          <p:spPr>
            <a:xfrm>
              <a:off x="7226640" y="5095080"/>
              <a:ext cx="0" cy="325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0" name="Line 66"/>
            <p:cNvSpPr/>
            <p:nvPr/>
          </p:nvSpPr>
          <p:spPr>
            <a:xfrm>
              <a:off x="8538480" y="5095080"/>
              <a:ext cx="0" cy="325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1" name="Line 67"/>
            <p:cNvSpPr/>
            <p:nvPr/>
          </p:nvSpPr>
          <p:spPr>
            <a:xfrm flipH="1">
              <a:off x="7363800" y="4314960"/>
              <a:ext cx="277200" cy="25920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Line 68"/>
            <p:cNvSpPr/>
            <p:nvPr/>
          </p:nvSpPr>
          <p:spPr>
            <a:xfrm>
              <a:off x="8124120" y="4314960"/>
              <a:ext cx="276840" cy="25920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3" name="Line 69"/>
            <p:cNvSpPr/>
            <p:nvPr/>
          </p:nvSpPr>
          <p:spPr>
            <a:xfrm>
              <a:off x="7434000" y="4835520"/>
              <a:ext cx="897120" cy="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4" name="Line 70"/>
            <p:cNvSpPr/>
            <p:nvPr/>
          </p:nvSpPr>
          <p:spPr>
            <a:xfrm flipH="1">
              <a:off x="7502400" y="4835520"/>
              <a:ext cx="828360" cy="910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Line 71"/>
            <p:cNvSpPr/>
            <p:nvPr/>
          </p:nvSpPr>
          <p:spPr>
            <a:xfrm>
              <a:off x="7434000" y="4835520"/>
              <a:ext cx="897120" cy="910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6" name="Line 72"/>
            <p:cNvSpPr/>
            <p:nvPr/>
          </p:nvSpPr>
          <p:spPr>
            <a:xfrm flipH="1">
              <a:off x="7502760" y="4574160"/>
              <a:ext cx="414000" cy="1171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7" name="Line 73"/>
            <p:cNvSpPr/>
            <p:nvPr/>
          </p:nvSpPr>
          <p:spPr>
            <a:xfrm>
              <a:off x="7917120" y="4574160"/>
              <a:ext cx="414000" cy="110700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8" name="Text Box 75"/>
          <p:cNvSpPr/>
          <p:nvPr/>
        </p:nvSpPr>
        <p:spPr>
          <a:xfrm>
            <a:off x="6875640" y="607860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全通道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24000" y="8604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1" action="ppaction://hlinksldjump"/>
              </a:rPr>
              <a:t>正式沟通五种典型的沟通网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89064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沟通的渠道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324000" y="1857240"/>
          <a:ext cx="8569080" cy="4529160"/>
        </p:xfrm>
        <a:graphic>
          <a:graphicData uri="http://schemas.openxmlformats.org/drawingml/2006/table">
            <a:tbl>
              <a:tblPr/>
              <a:tblGrid>
                <a:gridCol w="2016000"/>
                <a:gridCol w="3116160"/>
                <a:gridCol w="3436920"/>
              </a:tblGrid>
              <a:tr h="487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沟通类别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优点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缺点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286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正式沟通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效果好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权威性高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约束力强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沟通渠道长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速度慢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层次多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信息过滤多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755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非正式沟通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形式灵活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沟通速度快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补充正式沟通不足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信息容易失真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促进小集团形成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142200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五、管理沟通的影响因素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0920" y="2358720"/>
            <a:ext cx="7850160" cy="54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语言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信息过滤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信息选择性知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信息传递不适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沟通渠道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情绪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其他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121428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六、护理管理活动中的沟通方法与技巧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42880" y="2265120"/>
            <a:ext cx="82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沟通准备充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目的明确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了解对方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信息传递清晰准确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126360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五、护理管理活动中的沟通方法与技巧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14160" y="2314080"/>
            <a:ext cx="8243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选择恰当的沟通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正确使用语言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非语言的使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选择适当的沟通渠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1189080"/>
            <a:ext cx="91440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五、护理管理活动中的沟通方法与技巧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14240" y="2071440"/>
            <a:ext cx="705672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积极倾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基本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专注、移情、接收、对完整性负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了解谈话内容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背景       用表情表达兴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语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肢体语言      勿急于发表看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当提问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复述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澄清    谈话结束后讨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控制情绪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避免激动      安排充分交谈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Arial"/>
                <a:ea typeface="宋体"/>
              </a:rPr>
              <a:t>（四）运用反馈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85716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五、护理管理活动中的沟通方法与技巧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2880" y="1907640"/>
            <a:ext cx="82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五）个别谈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46ca6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谈话的类型及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类型：指示性、汇报性、讨论性、请示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8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作用：监督、参与、悉人、指示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46ca6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谈话的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激发下级谈话愿望    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抓住谈话重要问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表达对谈话的兴趣    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处理谈话中的停顿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掌握谈话评论分寸    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选择适当的谈话时机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83016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第二节   冲  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68360" y="2125440"/>
            <a:ext cx="831672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冲突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(conflict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27120" indent="-4525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群体内部个体与个体之间、个体与群体之间存在的互不相容、互相排斥的一种矛盾表现形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4" name="Picture 7" descr="http://pic7.nipic.com/20100527/3179695_091758715368_2.jpg"/>
          <p:cNvPicPr/>
          <p:nvPr/>
        </p:nvPicPr>
        <p:blipFill>
          <a:blip r:embed="rId1"/>
          <a:srcRect l="0" t="0" r="0" b="3900"/>
          <a:stretch/>
        </p:blipFill>
        <p:spPr>
          <a:xfrm>
            <a:off x="4932360" y="3925800"/>
            <a:ext cx="3610080" cy="260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3"/>
          <p:cNvSpPr/>
          <p:nvPr/>
        </p:nvSpPr>
        <p:spPr>
          <a:xfrm>
            <a:off x="539640" y="1785960"/>
            <a:ext cx="7858080" cy="55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识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陈述管理沟通、冲突的相关概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列举管理沟通的原则、类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概括冲突的分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理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理解管理沟通的目的和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解释管理沟通的影响沟通的因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阐述冲突的基本过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运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在护理实践中有效运用管理沟通的技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在护理实践中运用冲突处理策略有效的处理冲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矩形 7"/>
          <p:cNvSpPr/>
          <p:nvPr/>
        </p:nvSpPr>
        <p:spPr>
          <a:xfrm>
            <a:off x="2050920" y="993600"/>
            <a:ext cx="41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71280" y="1071720"/>
            <a:ext cx="91440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一、冲突的分类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8000" y="1911240"/>
            <a:ext cx="828036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建设性冲突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constructive conflict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31800" indent="-45720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支持组织或小组实现工作目标，对组织或小组工作绩效具有积极建设意义的冲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非建设性冲突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non-constructive conflict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31800" indent="-45720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于认识不一致，组织资源和利益分配不均，导致员工之间发生相互抵触、争执甚至攻击等行为，造成组织效率下降，最终影响组织发展的冲突，又称破坏性冲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71280" y="1764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ddb523"/>
                </a:solidFill>
                <a:latin typeface="Verdana"/>
                <a:ea typeface="宋体"/>
              </a:rPr>
              <a:t>冲突的分类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250920" y="1317600"/>
          <a:ext cx="8713800" cy="5040360"/>
        </p:xfrm>
        <a:graphic>
          <a:graphicData uri="http://schemas.openxmlformats.org/drawingml/2006/table">
            <a:tbl>
              <a:tblPr/>
              <a:tblGrid>
                <a:gridCol w="1296720"/>
                <a:gridCol w="3888000"/>
                <a:gridCol w="3529080"/>
              </a:tblGrid>
              <a:tr h="709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分  类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特  点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作  用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084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建设性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冲突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双方有共同目标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,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有解决问题意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争论是为了寻求解决问题的方法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双方冲突以问题为中心展开争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冲突双方均愿意了解对方的观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争论过程中的信息交流不断增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发现组织问题，寻找解决措施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促进公平竞争，提高组织效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防止思想僵化，提高决策质量激发创造力，适应外界环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246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非建设性冲突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争论不再围绕解决问题展开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双方关注自己观点是否取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相互人身攻击现象时常发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双方均不愿听取对方的意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意见交换不断减少甚至停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造成成员心理紧张、焦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导致人与人之间相互排斥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造成组织内部的士气涣散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削弱组织战斗力，影响绩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103644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二、冲突的基本过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2914200" y="2143080"/>
            <a:ext cx="58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潜伏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被认识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被感觉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处理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结局阶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808200" indent="-3366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9280" y="799920"/>
            <a:ext cx="8001000" cy="1215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、冲突处理策略及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1604520" y="190944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处理冲突的策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回避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avoidance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漠不关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妥协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compromise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互相让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顺应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accommodation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弱化差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强制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compel 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利用权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协作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collaboration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寻求双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9280" y="846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二、冲突处理策略及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357200" y="2214360"/>
            <a:ext cx="850104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处理冲突的策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 indent="14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宋体"/>
              </a:rPr>
              <a:t>谈判法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2" marL="982800" indent="-447840"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配谈判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综合谈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82800" indent="-447840"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谈判要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166760" indent="-358560">
              <a:spcBef>
                <a:spcPts val="601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态度积极主动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针对问题，避免攻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166760" indent="-358560">
              <a:spcBef>
                <a:spcPts val="601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持灵活应变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寻求双赢的解决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166760" indent="-358560">
              <a:spcBef>
                <a:spcPts val="601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营造开放气氛：必要时寻求第三方协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14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宋体"/>
              </a:rPr>
              <a:t>促进法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99504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、护理管理中的冲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714680" y="1974960"/>
            <a:ext cx="847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护士与护士之间的冲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534960" indent="-36036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形成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医护队伍中层次结构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工作压力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利益冲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34960" indent="-36036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认识冲突存在客观性和两面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加强同理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信任原则处理冲突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确认问题的原因或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、护理管理中的冲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714320" y="2071800"/>
            <a:ext cx="87152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士与患者之间的冲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形成的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者方面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士方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增强法制和服务意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规范护士的服务行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增加护理人员的配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加强业务和技能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护理管理中的冲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071720" y="2214720"/>
            <a:ext cx="885816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士与其他医务人员之间的冲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形成的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4240" indent="-34452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工作性质不同、期望值不同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4240" indent="-34452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医护人员的情绪因素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4240" indent="-34452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医护人员的沟通不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4240" indent="-34452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建立医护有效沟通、共同合作，营造团队氛围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0920" y="1035000"/>
            <a:ext cx="89298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94920" y="20718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沟通重要吗？为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如何才能做到有效沟通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如何正确看待护理管理冲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在护理管理中，如何正确区分冲突的性质，如何恰当解决实际工作中的冲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0920" y="920880"/>
            <a:ext cx="89298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68000" y="1988640"/>
            <a:ext cx="85345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沟通重要吗？为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如何才能做到有效沟通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如何正确看待护理管理冲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在护理管理中，如何正确区分冲突的性质，如何恰当解决实际工作中的冲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50920" y="2138400"/>
            <a:ext cx="4680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      </a:t>
            </a: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一个人的成功</a:t>
            </a:r>
            <a:r>
              <a:rPr b="1" lang="en-US" sz="2800" spc="-1" strike="noStrike">
                <a:solidFill>
                  <a:srgbClr val="03517d"/>
                </a:solidFill>
                <a:latin typeface="隶书"/>
                <a:ea typeface="隶书"/>
              </a:rPr>
              <a:t>25%</a:t>
            </a: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靠智慧、专业水平和经验，</a:t>
            </a:r>
            <a:r>
              <a:rPr b="1" lang="en-US" sz="2800" spc="-1" strike="noStrike">
                <a:solidFill>
                  <a:srgbClr val="03517d"/>
                </a:solidFill>
                <a:latin typeface="隶书"/>
                <a:ea typeface="隶书"/>
              </a:rPr>
              <a:t>75%</a:t>
            </a: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取决于沟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      </a:t>
            </a:r>
            <a:r>
              <a:rPr b="1" lang="en-US" sz="2600" spc="-1" strike="noStrike">
                <a:solidFill>
                  <a:srgbClr val="03517d"/>
                </a:solidFill>
                <a:latin typeface="Arial"/>
                <a:ea typeface="隶书"/>
              </a:rPr>
              <a:t>——</a:t>
            </a:r>
            <a:r>
              <a:rPr b="1" lang="en-US" sz="2600" spc="-1" strike="noStrike">
                <a:solidFill>
                  <a:srgbClr val="03517d"/>
                </a:solidFill>
                <a:latin typeface="隶书"/>
                <a:ea typeface="隶书"/>
              </a:rPr>
              <a:t> </a:t>
            </a:r>
            <a:r>
              <a:rPr b="1" lang="zh-CN" sz="2600" spc="-1" strike="noStrike">
                <a:solidFill>
                  <a:srgbClr val="03517d"/>
                </a:solidFill>
                <a:latin typeface="隶书"/>
                <a:ea typeface="隶书"/>
              </a:rPr>
              <a:t>美国普林斯顿大学调查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6" name="Picture 3" descr="康复护理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1700280"/>
            <a:ext cx="3500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1027"/>
          <p:cNvSpPr/>
          <p:nvPr/>
        </p:nvSpPr>
        <p:spPr>
          <a:xfrm>
            <a:off x="684360" y="692280"/>
            <a:ext cx="77040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 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6" name="WordArt 13" descr=""/>
          <p:cNvPicPr/>
          <p:nvPr/>
        </p:nvPicPr>
        <p:blipFill>
          <a:blip r:embed="rId1"/>
          <a:stretch/>
        </p:blipFill>
        <p:spPr>
          <a:xfrm>
            <a:off x="2494080" y="2371680"/>
            <a:ext cx="4430520" cy="19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80928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3517d"/>
                </a:solidFill>
                <a:latin typeface="黑体"/>
                <a:ea typeface="黑体"/>
              </a:rPr>
              <a:t>第一节  管理沟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24000" y="1889280"/>
            <a:ext cx="8424720" cy="50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一、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管理沟通</a:t>
            </a:r>
            <a:r>
              <a:rPr b="1" lang="en-US" sz="2800" spc="-1" strike="noStrike">
                <a:solidFill>
                  <a:srgbClr val="03517d"/>
                </a:solidFill>
                <a:latin typeface="黑体"/>
                <a:ea typeface="黑体"/>
              </a:rPr>
              <a:t>(management communication)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管理活动中人与人之间的信息传递与交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管理活动中沟通双方通过沟通渠道进行的相互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9" name="Picture 6" descr="BD07160_"/>
          <p:cNvPicPr/>
          <p:nvPr/>
        </p:nvPicPr>
        <p:blipFill>
          <a:blip r:embed="rId1"/>
          <a:stretch/>
        </p:blipFill>
        <p:spPr>
          <a:xfrm>
            <a:off x="5148360" y="3976560"/>
            <a:ext cx="3047760" cy="27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Group 20"/>
          <p:cNvGrpSpPr/>
          <p:nvPr/>
        </p:nvGrpSpPr>
        <p:grpSpPr>
          <a:xfrm>
            <a:off x="468360" y="4508640"/>
            <a:ext cx="8136000" cy="835920"/>
            <a:chOff x="468360" y="4508640"/>
            <a:chExt cx="8136000" cy="835920"/>
          </a:xfrm>
        </p:grpSpPr>
        <p:sp>
          <p:nvSpPr>
            <p:cNvPr id="161" name="TextBox 3"/>
            <p:cNvSpPr/>
            <p:nvPr/>
          </p:nvSpPr>
          <p:spPr>
            <a:xfrm>
              <a:off x="468360" y="4884840"/>
              <a:ext cx="114300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11111"/>
                  </a:solidFill>
                  <a:latin typeface="Calibri"/>
                  <a:ea typeface="黑体"/>
                </a:rPr>
                <a:t>信息源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TextBox 4"/>
            <p:cNvSpPr/>
            <p:nvPr/>
          </p:nvSpPr>
          <p:spPr>
            <a:xfrm>
              <a:off x="2824200" y="4884840"/>
              <a:ext cx="99864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11111"/>
                  </a:solidFill>
                  <a:latin typeface="Calibri"/>
                  <a:ea typeface="黑体"/>
                </a:rPr>
                <a:t>信息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TextBox 5"/>
            <p:cNvSpPr/>
            <p:nvPr/>
          </p:nvSpPr>
          <p:spPr>
            <a:xfrm>
              <a:off x="5035680" y="4884840"/>
              <a:ext cx="121284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11111"/>
                  </a:solidFill>
                  <a:latin typeface="Calibri"/>
                  <a:ea typeface="黑体"/>
                </a:rPr>
                <a:t>接受者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TextBox 6"/>
            <p:cNvSpPr/>
            <p:nvPr/>
          </p:nvSpPr>
          <p:spPr>
            <a:xfrm>
              <a:off x="7605720" y="4884840"/>
              <a:ext cx="99864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11111"/>
                  </a:solidFill>
                  <a:latin typeface="Calibri"/>
                  <a:ea typeface="黑体"/>
                </a:rPr>
                <a:t>反馈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TextBox 7"/>
            <p:cNvSpPr/>
            <p:nvPr/>
          </p:nvSpPr>
          <p:spPr>
            <a:xfrm>
              <a:off x="1612800" y="4508640"/>
              <a:ext cx="128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信息编码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TextBox 8"/>
            <p:cNvSpPr/>
            <p:nvPr/>
          </p:nvSpPr>
          <p:spPr>
            <a:xfrm>
              <a:off x="6321600" y="4508640"/>
              <a:ext cx="128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信息解码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7" name="TextBox 9"/>
            <p:cNvSpPr/>
            <p:nvPr/>
          </p:nvSpPr>
          <p:spPr>
            <a:xfrm>
              <a:off x="3822840" y="4508640"/>
              <a:ext cx="128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沟通渠道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68" name="直接箭头连接符 15"/>
            <p:cNvCxnSpPr/>
            <p:nvPr/>
          </p:nvCxnSpPr>
          <p:spPr>
            <a:xfrm>
              <a:off x="1682280" y="5121000"/>
              <a:ext cx="1072440" cy="1080"/>
            </a:xfrm>
            <a:prstGeom prst="straightConnector1">
              <a:avLst/>
            </a:prstGeom>
            <a:ln w="19080">
              <a:solidFill>
                <a:srgbClr val="99669b"/>
              </a:solidFill>
              <a:miter/>
              <a:tailEnd len="med" type="arrow" w="med"/>
            </a:ln>
          </p:spPr>
        </p:cxnSp>
        <p:cxnSp>
          <p:nvCxnSpPr>
            <p:cNvPr id="169" name="直接箭头连接符 16"/>
            <p:cNvCxnSpPr/>
            <p:nvPr/>
          </p:nvCxnSpPr>
          <p:spPr>
            <a:xfrm>
              <a:off x="6392520" y="5121000"/>
              <a:ext cx="1142280" cy="1080"/>
            </a:xfrm>
            <a:prstGeom prst="straightConnector1">
              <a:avLst/>
            </a:prstGeom>
            <a:ln w="19080">
              <a:solidFill>
                <a:srgbClr val="99669b"/>
              </a:solidFill>
              <a:miter/>
              <a:tailEnd len="med" type="arrow" w="med"/>
            </a:ln>
          </p:spPr>
        </p:cxnSp>
        <p:cxnSp>
          <p:nvCxnSpPr>
            <p:cNvPr id="170" name="直接箭头连接符 28"/>
            <p:cNvCxnSpPr/>
            <p:nvPr/>
          </p:nvCxnSpPr>
          <p:spPr>
            <a:xfrm>
              <a:off x="3822480" y="5121000"/>
              <a:ext cx="1213560" cy="31680"/>
            </a:xfrm>
            <a:prstGeom prst="straightConnector1">
              <a:avLst/>
            </a:prstGeom>
            <a:ln w="19080">
              <a:solidFill>
                <a:srgbClr val="99669b"/>
              </a:solidFill>
              <a:miter/>
              <a:tailEnd len="med" type="arrow" w="med"/>
            </a:ln>
          </p:spPr>
        </p:cxnSp>
      </p:grpSp>
      <p:cxnSp>
        <p:nvCxnSpPr>
          <p:cNvPr id="171" name="肘形连接符 31"/>
          <p:cNvCxnSpPr/>
          <p:nvPr/>
        </p:nvCxnSpPr>
        <p:spPr>
          <a:xfrm rot="5400000">
            <a:off x="4573800" y="1769040"/>
            <a:ext cx="3960" cy="7066800"/>
          </a:xfrm>
          <a:prstGeom prst="bentConnector3">
            <a:avLst>
              <a:gd name="adj1" fmla="val 14400000"/>
            </a:avLst>
          </a:prstGeom>
          <a:ln w="19080">
            <a:solidFill>
              <a:srgbClr val="99669b"/>
            </a:solidFill>
            <a:miter/>
            <a:tailEnd len="med" type="arrow" w="med"/>
          </a:ln>
        </p:spPr>
      </p:cxnSp>
      <p:sp>
        <p:nvSpPr>
          <p:cNvPr id="172" name="Rectangle 17"/>
          <p:cNvSpPr/>
          <p:nvPr/>
        </p:nvSpPr>
        <p:spPr>
          <a:xfrm>
            <a:off x="179280" y="1700280"/>
            <a:ext cx="8280360" cy="58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22440" indent="-3495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管理沟通是一个过程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1" marL="622440" indent="-349560">
              <a:lnSpc>
                <a:spcPct val="10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要素：信息源、信息编码、沟通渠道、信息 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1" marL="622440" indent="-3495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            </a:t>
            </a: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解码、接受者、反馈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1" marL="622440" indent="-349560">
              <a:lnSpc>
                <a:spcPct val="10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关键环节：信息编码、沟通渠道、信息解码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123480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二、管理沟通的目的和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95280" y="260316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收集资料、指导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改变行为、建立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改善人际关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传递信息，影响知觉、思想、态度，改变行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表达情感，满足心理需求，确定与对方人际关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109368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、管理沟通原则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000" y="2317680"/>
            <a:ext cx="8675640" cy="52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信息明确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1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信息沟通的语言和传递方式能被接受者所理解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组织结构完整性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1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组织内的沟通应按组织结构的完整性进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及时性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非正式沟通策略的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重视交谈与倾听技巧的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9680" y="10792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四、管理沟通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AutoShape 3"/>
          <p:cNvSpPr/>
          <p:nvPr/>
        </p:nvSpPr>
        <p:spPr>
          <a:xfrm>
            <a:off x="563400" y="1967040"/>
            <a:ext cx="6096240" cy="4495680"/>
          </a:xfrm>
          <a:prstGeom prst="rightArrow">
            <a:avLst>
              <a:gd name="adj1" fmla="val 79306"/>
              <a:gd name="adj2" fmla="val 33587"/>
            </a:avLst>
          </a:prstGeom>
          <a:solidFill>
            <a:srgbClr val="8ac8d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533520" y="2552760"/>
            <a:ext cx="4038480" cy="990720"/>
          </a:xfrm>
          <a:prstGeom prst="roundRect">
            <a:avLst>
              <a:gd name="adj" fmla="val 9106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9b"/>
                </a:solidFill>
                <a:latin typeface="Arial"/>
                <a:ea typeface="宋体"/>
              </a:rPr>
              <a:t>按沟通的媒介分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533520" y="3695760"/>
            <a:ext cx="4038480" cy="990720"/>
          </a:xfrm>
          <a:prstGeom prst="roundRect">
            <a:avLst>
              <a:gd name="adj" fmla="val 9106"/>
            </a:avLst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9b"/>
                </a:solidFill>
                <a:latin typeface="Arial"/>
                <a:ea typeface="宋体"/>
              </a:rPr>
              <a:t>按沟通的方向分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AutoShape 6"/>
          <p:cNvSpPr/>
          <p:nvPr/>
        </p:nvSpPr>
        <p:spPr>
          <a:xfrm>
            <a:off x="539640" y="4848120"/>
            <a:ext cx="4038840" cy="990720"/>
          </a:xfrm>
          <a:prstGeom prst="roundRect">
            <a:avLst>
              <a:gd name="adj" fmla="val 9106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9b"/>
                </a:solidFill>
                <a:latin typeface="Arial"/>
                <a:ea typeface="宋体"/>
              </a:rPr>
              <a:t>按沟通的渠道分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AutoShape 7"/>
          <p:cNvSpPr/>
          <p:nvPr/>
        </p:nvSpPr>
        <p:spPr>
          <a:xfrm>
            <a:off x="6378480" y="355140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沟通的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114300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四、管理沟通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2390400"/>
            <a:ext cx="8748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按沟通的媒介分类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 indent="-36972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书面沟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图表、文字的表达形式进行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36972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头沟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正式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正式的面谈、会议、电话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36972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语言沟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手势、动作、姿势、表情、音调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音量、信号、实物、视听设备等媒介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信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2T10:01:47Z</dcterms:modified>
  <cp:revision>1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